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5B4A-7D77-44B1-B735-5F4C7C569AD0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076D-1571-4603-A3AF-B39BD39EB4A3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81B-A29E-4C3B-8BE7-1D2F9D1E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9FA-AF6D-4089-945E-8D4E0719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F32-1AA2-4450-B8ED-17344276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EFC-4A56-4AD7-A52F-F45E3202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F0487-2EE3-4DD4-A6B1-5C9C2C73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801DF-31B2-4E8A-A111-8974AA52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569C7-3436-45CD-9491-0D8EA29D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B8568-301F-4032-8F13-ED7B9BB1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FD5A1-938F-4AB3-B84A-17C44F28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FEF04-7C5C-46F9-8E68-96872BBA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C3880-56DD-4AD6-BB47-B7D163D5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BAB-0479-45F3-8A48-F16BC430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0B069-74E0-4173-99A3-129B5FB9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BFF93-2D7D-47CE-8DE2-1A7D460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040BA-C50A-47F4-98FD-099F14F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7C483-4B72-4942-99E7-CE1FC1DC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DB747-A5AC-4EE9-814B-10400893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C1CC-CE08-4E50-8329-734BEF47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6DE2-D622-43B5-910A-F8584262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04B7-40EC-4919-9E57-5F00B356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2377-497C-46A9-A354-1C3CB384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16AD-7C46-402F-94C2-F145C2E0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0EA-14C8-4C2B-8AEF-FE57B6C3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9627C-F832-46B4-9694-18AEC139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5BAB-AB1A-4D7E-BB51-345B8F73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49A2-FE78-45F4-8B37-DBA2880A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3C51-1946-43CF-B4A8-30649B70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5409-4C45-4F92-A56F-490A80E3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219C-EB62-486B-8E87-0B3FE48C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1006-A266-4812-BB2A-B65A59EC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6683F-2601-4C7D-A2CE-4627D419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44306B-6210-415C-B56B-0E25BEC6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9AAF9-8233-4DBA-A25C-343D6236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429-C6B6-4CF3-A809-1C4225F1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F55DA9-D23D-4DBD-8DA3-5D7E0634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E189FE-8179-47F3-AE87-ABE93BA6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04A2C-F25B-4452-9312-434CDAEA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75155A-4C71-4DF6-8A03-94D3174C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E8E45-5265-4438-AACC-068C773E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80506-F72B-48A7-895A-BC876018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69A91-39F3-46ED-83A0-B669AB0F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26949-72DC-4FED-8891-85B0F667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51C94D-8E50-42AE-82F7-4EADAC1E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EB3-FEFC-46BD-A427-DB5B02F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B12-A178-4273-8679-FAD4642B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8A9-A5D2-4CEE-BAD7-E14A05C6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AC5-6A93-4461-82ED-54024431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A69-0D5C-4125-B41C-025BA4DF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4C0E-1EE1-409B-A2DA-368704B6249E}" type="slidenum">
              <a:rPr b="0" lang="ro-RO" sz="16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3FC3-B17E-4623-AD1F-2E2584B93DF1}" type="slidenum">
              <a:rPr b="0" lang="ro-RO" sz="16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ACEA-5CC1-4BA5-8A5B-388ECFE8C596}" type="slidenum">
              <a:rPr b="0" lang="ro-RO" sz="16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C6A4-0378-405F-872B-9C8A4B269879}" type="slidenum">
              <a:rPr b="0" lang="ro-RO" sz="16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2"/>
          <a:stretch/>
        </p:blipFill>
        <p:spPr>
          <a:xfrm>
            <a:off x="-96840" y="109440"/>
            <a:ext cx="9333000" cy="2536920"/>
          </a:xfrm>
          <a:prstGeom prst="rect">
            <a:avLst/>
          </a:prstGeom>
          <a:ln w="0">
            <a:noFill/>
          </a:ln>
        </p:spPr>
      </p:pic>
      <p:sp>
        <p:nvSpPr>
          <p:cNvPr id="178" name="Text Placeholder 4"/>
          <p:cNvSpPr/>
          <p:nvPr/>
        </p:nvSpPr>
        <p:spPr>
          <a:xfrm>
            <a:off x="685800" y="26668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Realizat de:Haidu 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Chet Co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Duma Ion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Bota Cris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Viliga Dani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Malita Claud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Definit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Caracteristicile unei funct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Graficul unei functii radical de ordin p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Graficul unei functii radical de ordin imp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Concluz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Bibliografi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Title 5" descr=""/>
          <p:cNvPicPr/>
          <p:nvPr/>
        </p:nvPicPr>
        <p:blipFill>
          <a:blip r:embed="rId2"/>
          <a:stretch/>
        </p:blipFill>
        <p:spPr>
          <a:xfrm>
            <a:off x="360360" y="146160"/>
            <a:ext cx="8405640" cy="1347840"/>
          </a:xfrm>
          <a:prstGeom prst="rect">
            <a:avLst/>
          </a:prstGeom>
          <a:ln w="0">
            <a:noFill/>
          </a:ln>
        </p:spPr>
      </p:pic>
      <p:pic>
        <p:nvPicPr>
          <p:cNvPr id="182" name="Content Placeholder 6" descr=""/>
          <p:cNvPicPr/>
          <p:nvPr/>
        </p:nvPicPr>
        <p:blipFill>
          <a:blip r:embed="rId3"/>
          <a:stretch/>
        </p:blipFill>
        <p:spPr>
          <a:xfrm>
            <a:off x="304920" y="1365120"/>
            <a:ext cx="8321400" cy="4645080"/>
          </a:xfrm>
          <a:prstGeom prst="rect">
            <a:avLst/>
          </a:prstGeom>
          <a:ln w="0">
            <a:noFill/>
          </a:ln>
        </p:spPr>
      </p:pic>
      <p:pic>
        <p:nvPicPr>
          <p:cNvPr id="183" name="Conector drept 7" descr=""/>
          <p:cNvPicPr/>
          <p:nvPr/>
        </p:nvPicPr>
        <p:blipFill>
          <a:blip r:embed="rId4"/>
          <a:stretch/>
        </p:blipFill>
        <p:spPr>
          <a:xfrm>
            <a:off x="4797360" y="1504800"/>
            <a:ext cx="244440" cy="38160"/>
          </a:xfrm>
          <a:prstGeom prst="rect">
            <a:avLst/>
          </a:prstGeom>
          <a:ln w="0">
            <a:noFill/>
          </a:ln>
        </p:spPr>
      </p:pic>
      <p:pic>
        <p:nvPicPr>
          <p:cNvPr id="184" name="Conector drept 8" descr=""/>
          <p:cNvPicPr/>
          <p:nvPr/>
        </p:nvPicPr>
        <p:blipFill>
          <a:blip r:embed="rId5"/>
          <a:stretch/>
        </p:blipFill>
        <p:spPr>
          <a:xfrm>
            <a:off x="5784840" y="2419200"/>
            <a:ext cx="244440" cy="38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Table 14" descr=""/>
          <p:cNvPicPr/>
          <p:nvPr/>
        </p:nvPicPr>
        <p:blipFill>
          <a:blip r:embed="rId2"/>
          <a:stretch/>
        </p:blipFill>
        <p:spPr>
          <a:xfrm>
            <a:off x="0" y="36360"/>
            <a:ext cx="8759880" cy="682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2819520" y="3124080"/>
          <a:ext cx="2895480" cy="743040"/>
        </p:xfrm>
        <a:graphic>
          <a:graphicData uri="http://schemas.openxmlformats.org/drawingml/2006/table">
            <a:tbl>
              <a:tblPr/>
              <a:tblGrid>
                <a:gridCol w="533160"/>
                <a:gridCol w="2362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∞           1         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           1          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019920" y="3124080"/>
          <a:ext cx="2743200" cy="743040"/>
        </p:xfrm>
        <a:graphic>
          <a:graphicData uri="http://schemas.openxmlformats.org/drawingml/2006/table">
            <a:tbl>
              <a:tblPr/>
              <a:tblGrid>
                <a:gridCol w="533160"/>
                <a:gridCol w="2210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∞   -1     0      1 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∞   -1     0     1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819520" y="4343400"/>
          <a:ext cx="2971800" cy="735120"/>
        </p:xfrm>
        <a:graphic>
          <a:graphicData uri="http://schemas.openxmlformats.org/drawingml/2006/table">
            <a:tbl>
              <a:tblPr/>
              <a:tblGrid>
                <a:gridCol w="552240"/>
                <a:gridCol w="2419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                        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 +   +   +   +   +   +   +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943600" y="4343400"/>
          <a:ext cx="2819520" cy="735120"/>
        </p:xfrm>
        <a:graphic>
          <a:graphicData uri="http://schemas.openxmlformats.org/drawingml/2006/table">
            <a:tbl>
              <a:tblPr/>
              <a:tblGrid>
                <a:gridCol w="523800"/>
                <a:gridCol w="2295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∞              0      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 -  -  -  -  -0+  +  + 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Conector drept 7"/>
          <p:cNvSpPr/>
          <p:nvPr/>
        </p:nvSpPr>
        <p:spPr>
          <a:xfrm>
            <a:off x="3429000" y="380880"/>
            <a:ext cx="2286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ector drept 8"/>
          <p:cNvSpPr/>
          <p:nvPr/>
        </p:nvSpPr>
        <p:spPr>
          <a:xfrm>
            <a:off x="7238880" y="15228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62520" y="3657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800600" y="3657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10280" y="36576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91520" y="3657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772400" y="3657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6576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2"/>
          <a:stretch/>
        </p:blipFill>
        <p:spPr>
          <a:xfrm>
            <a:off x="390600" y="146160"/>
            <a:ext cx="8302680" cy="1158840"/>
          </a:xfrm>
          <a:prstGeom prst="rect">
            <a:avLst/>
          </a:prstGeom>
          <a:ln w="0">
            <a:noFill/>
          </a:ln>
        </p:spPr>
      </p:pic>
      <p:pic>
        <p:nvPicPr>
          <p:cNvPr id="200" name="Content Placeholder 5" descr="fără titlu.bmp"/>
          <p:cNvPicPr/>
          <p:nvPr/>
        </p:nvPicPr>
        <p:blipFill>
          <a:blip r:embed="rId3"/>
          <a:stretch/>
        </p:blipFill>
        <p:spPr>
          <a:xfrm>
            <a:off x="380880" y="1981080"/>
            <a:ext cx="8382240" cy="39625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838080" y="3962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f(x)=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657600" y="40384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f(x)=</a:t>
            </a:r>
            <a:r>
              <a:rPr b="0" lang="ro-RO" sz="1800" spc="-1" strike="noStrike" baseline="30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931800" y="43434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063200" y="259092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0000"/>
                </a:solidFill>
                <a:latin typeface="Constantia"/>
              </a:rPr>
              <a:t>y=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7224120" y="3124080"/>
            <a:ext cx="7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y=</a:t>
            </a:r>
            <a:r>
              <a:rPr b="0" lang="ro-RO" sz="1800" spc="-1" strike="noStrike" baseline="30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049200" y="3581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8535600" y="3581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5639760" y="3581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617220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3658680" y="2133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1220400" y="2057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3631680" y="3200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1726920" y="3657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1117080" y="3200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6070320" y="3276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6603480" y="3657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4165200" y="3657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018120" y="36576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3579480" y="36576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141200" y="36576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onector drept 27"/>
          <p:cNvSpPr/>
          <p:nvPr/>
        </p:nvSpPr>
        <p:spPr>
          <a:xfrm>
            <a:off x="7772400" y="350532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ector drept 28"/>
          <p:cNvSpPr/>
          <p:nvPr/>
        </p:nvSpPr>
        <p:spPr>
          <a:xfrm>
            <a:off x="7543800" y="2971800"/>
            <a:ext cx="22860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onector drept 29"/>
          <p:cNvSpPr/>
          <p:nvPr/>
        </p:nvSpPr>
        <p:spPr>
          <a:xfrm>
            <a:off x="1523880" y="434340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onector drept 30"/>
          <p:cNvSpPr/>
          <p:nvPr/>
        </p:nvSpPr>
        <p:spPr>
          <a:xfrm>
            <a:off x="4419720" y="441972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2"/>
          <a:stretch/>
        </p:blipFill>
        <p:spPr>
          <a:xfrm>
            <a:off x="390600" y="36360"/>
            <a:ext cx="8319960" cy="1036800"/>
          </a:xfrm>
          <a:prstGeom prst="rect">
            <a:avLst/>
          </a:prstGeom>
          <a:ln w="0">
            <a:noFill/>
          </a:ln>
        </p:spPr>
      </p:pic>
      <p:pic>
        <p:nvPicPr>
          <p:cNvPr id="226" name="Content Placeholder 5" descr="dffgfdhfhdd.bmp"/>
          <p:cNvPicPr/>
          <p:nvPr/>
        </p:nvPicPr>
        <p:blipFill>
          <a:blip r:embed="rId3"/>
          <a:stretch/>
        </p:blipFill>
        <p:spPr>
          <a:xfrm>
            <a:off x="304920" y="1447920"/>
            <a:ext cx="8534160" cy="42670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762120" y="4038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f(x)=</a:t>
            </a:r>
            <a:r>
              <a:rPr b="0" lang="ro-RO" sz="18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581280" y="40384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f(x)=</a:t>
            </a:r>
            <a:r>
              <a:rPr b="0" lang="ro-RO" sz="1800" spc="-1" strike="noStrike" baseline="30000">
                <a:solidFill>
                  <a:srgbClr val="000000"/>
                </a:solidFill>
                <a:latin typeface="Constantia"/>
              </a:rPr>
              <a:t>5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6706440" y="4572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7224120" y="2438280"/>
            <a:ext cx="7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0000"/>
                </a:solidFill>
                <a:latin typeface="Constantia"/>
              </a:rPr>
              <a:t>y=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nstantia"/>
              </a:rPr>
              <a:t>3</a:t>
            </a:r>
            <a:r>
              <a:rPr b="0" lang="ro-RO" sz="1800" spc="-1" strike="noStrike">
                <a:solidFill>
                  <a:srgbClr val="ff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7452720" y="2895480"/>
            <a:ext cx="791640" cy="642600"/>
          </a:xfrm>
          <a:prstGeom prst="rect">
            <a:avLst/>
          </a:prstGeom>
          <a:noFill/>
          <a:ln w="9360">
            <a:solidFill>
              <a:srgbClr val="fef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y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nstantia"/>
              </a:rPr>
              <a:t>5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6477120" y="1752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3886200" y="1828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1220400" y="1828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896560" y="3352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5411160" y="3352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8611560" y="3352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639900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380808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1143000" y="342900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4316400" y="34290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3782880" y="30481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1649520" y="34290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1116000" y="30481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6373800" y="30481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6907320" y="34290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6"/>
          <p:cNvSpPr/>
          <p:nvPr/>
        </p:nvSpPr>
        <p:spPr>
          <a:xfrm>
            <a:off x="3942000" y="3657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3408840" y="32767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741600" y="32767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9"/>
          <p:cNvSpPr/>
          <p:nvPr/>
        </p:nvSpPr>
        <p:spPr>
          <a:xfrm>
            <a:off x="1275120" y="3657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0"/>
          <p:cNvSpPr/>
          <p:nvPr/>
        </p:nvSpPr>
        <p:spPr>
          <a:xfrm>
            <a:off x="5923440" y="32767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6532920" y="3657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onector drept 32"/>
          <p:cNvSpPr/>
          <p:nvPr/>
        </p:nvSpPr>
        <p:spPr>
          <a:xfrm>
            <a:off x="4343400" y="441972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onector drept 33"/>
          <p:cNvSpPr/>
          <p:nvPr/>
        </p:nvSpPr>
        <p:spPr>
          <a:xfrm>
            <a:off x="8001000" y="327672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ector drept 34"/>
          <p:cNvSpPr/>
          <p:nvPr/>
        </p:nvSpPr>
        <p:spPr>
          <a:xfrm>
            <a:off x="7772400" y="2819520"/>
            <a:ext cx="22860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drept 35"/>
          <p:cNvSpPr/>
          <p:nvPr/>
        </p:nvSpPr>
        <p:spPr>
          <a:xfrm>
            <a:off x="1523880" y="441972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33b0d"/>
                </a:solidFill>
                <a:latin typeface="Constantia"/>
              </a:rPr>
              <a:t>Concluzie</a:t>
            </a:r>
            <a:endParaRPr b="0" lang="en-US" sz="4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functia radical de ordinul par si impar cu cat creste ordinul radicalului graficul functiei se apropie de axa O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838080" y="569880"/>
            <a:ext cx="73692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ibliograf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ircea Ganga, Manual de matematic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pentru clasa a X-a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, 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itura Mathpress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arius Burtea, Georgeta Burtea Matematică -manual TC si CD, clasa a X-a, Editura Carminis, Piteşti, 2005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Petre Năchilă, Nicolae Angelescu, Algebră, clasa a X-a, Editura Paralela 45, Piteşti,1998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3" descr=""/>
          <p:cNvPicPr/>
          <p:nvPr/>
        </p:nvPicPr>
        <p:blipFill>
          <a:blip r:embed="rId2"/>
          <a:stretch/>
        </p:blipFill>
        <p:spPr>
          <a:xfrm>
            <a:off x="457200" y="2359080"/>
            <a:ext cx="8242200" cy="1841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8:57Z</dcterms:created>
  <dc:creator>marius</dc:creator>
  <dc:description/>
  <dc:language>en-US</dc:language>
  <cp:lastModifiedBy>Jeni</cp:lastModifiedBy>
  <dcterms:modified xsi:type="dcterms:W3CDTF">2011-02-24T16:14:43Z</dcterms:modified>
  <cp:revision>61</cp:revision>
  <dc:subject/>
  <dc:title>Functia radical de ordinul n</dc:title>
</cp:coreProperties>
</file>